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png" ContentType="image/png"/>
  <Override PartName="/ppt/media/image1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3F7-49E2-463C-816C-3FA56F9D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F5C-CCDF-46AA-92E4-6F59A8A1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0F0-76C3-4585-9D7F-EBA94F31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2F8-2863-4612-97B5-81B45513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9CD5-CF7D-4592-8372-6FD29026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4269-02B8-42F7-A8B7-8F0803F9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E4BB-1AB9-4A48-A409-2E2A186D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1147-E0FC-4A76-B1AF-C1B4D967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85B5-CDA1-4485-AD33-072A7F6A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CC17-6DFD-4595-91C3-5936C111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C10A-F83E-48DC-ABDA-C97A4A0F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F59-4702-400E-B491-9DEF26C2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20A2-B1EB-4D09-A41F-F2248A56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FB28-FA4C-411E-99C2-8E9838AE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FEAC-B90A-45EF-954C-D615A7C8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746A-5731-4107-A42E-50E048FA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61D4-48FD-4AC5-98CC-BB881E47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E0BD1-38CB-4C6C-A545-4B9A0B06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715D-6EC7-420C-9283-73CCD0AE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05CEF-8F42-4458-83D4-83042998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6C32D-7578-428B-A720-13089F99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82B4-32A5-492C-86C2-6175A7BB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E00-659D-40AF-AB3A-74DFC76F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ECC23-FA15-4979-B4B4-86F1D31B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9692E-EF99-4EFB-81C9-EC277B41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C3BA-32EE-438C-9166-128EE549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D7372-4AA7-444C-B272-10965B41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13F88-32C2-4710-9C89-6F8F7F24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CEDCE-33BE-4188-B4C9-209BE039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08F7-C035-40E9-9636-7B32DB13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9740-03B3-4EF3-8206-40627A05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139D2-5FA7-4477-B55A-AD34D20E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21D5-23F9-4FAD-ADBE-728E40F2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EE3-3468-4921-9C7E-D38E9460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87186-C317-48D1-95CF-AD2D6149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51C4E-0D9B-40FB-951B-43E3F0C8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FF3A-1092-4B12-83A4-3D6B4A63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AA969-72FE-4DBB-9348-963C3573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D0F3C-A78C-408E-B752-CBB3A920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40139-C680-417C-871A-35F69B57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653C-A812-4621-B1AA-0463C094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A8A7F-AFFC-4C31-A515-8F46F4CD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BA1FB-8ABF-4604-9665-4262E803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A0F-3B12-4C78-8A7D-B335F858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6F4-87B1-43AB-9F2F-8B262C0C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AC9-8E9B-4B49-988C-DB9DC54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067-18BA-4D8A-BCE4-1707A79E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C90-464E-4F73-AB77-1B9A2601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E580-D130-4E50-BA91-4969EFA089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74D5-C011-45A7-B83B-B5AE3203F8B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D8FA-2B6F-439E-9D05-CB7C2029F94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2A4C-89E0-471D-B562-270A890BC1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ic.6to23.com/ktqt/50385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ic.6to23.com/ktqt/50361_45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ongdou.gxnews.com.cn/forumview.asp?td=0&amp;topic_id=948822&amp;pagenum=1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mic.6to23.com/dmzb/list22.htm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comic.6to23.com/ktqt/list6.htm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zuowen.com.cn/club/dispbbs.asp?boardID=36&amp;ID=53386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19280" y="1341360"/>
            <a:ext cx="72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彩云"/>
              </a:rPr>
              <a:t>集 体 与 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23800" y="3789360"/>
            <a:ext cx="399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0814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主题班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23600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63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幼圆"/>
              </a:rPr>
              <a:t>什么是“团结”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幼圆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议一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幼圆"/>
              </a:rPr>
              <a:t>团结就是哥儿们义气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9c2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比赛哪个小组回答有关“团结就是力量”谚语和成语多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581360"/>
            <a:ext cx="1656000" cy="18766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3132000" y="260280"/>
            <a:ext cx="280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赛一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703d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371600" y="1828800"/>
            <a:ext cx="6705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你想到了……？</a:t>
            </a:r>
            <a:endParaRPr b="1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你想说些……？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35280" y="-5067360"/>
            <a:ext cx="1009440" cy="7621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彩云"/>
              </a:rPr>
              <a:t>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团结友爱，是中华民族的传统美德。大家都知道团结就是力量的道理，但能否做到呢？又应该如何做呢？团结需要每位同学来维护，希望同学们能做到关心人、团结人、同情人、帮助人、尊重人、信任人、容让人、原谅人、讲大团结、不搞小圈子。同学们团结了，才会有集体荣誉感，才能建设好我们班级，如果大家不团结，像一盘散沙，那班集体将一事无成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2124000" y="2492280"/>
            <a:ext cx="496728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班主任小结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041560" y="242100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有凝聚力的班集体的形成，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是全体成员的团结与奉献，每个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平时的学习与生活中应以实际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觉维护班级的荣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633320" y="21337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纪律是自由的保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33320" y="2924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纪律是学习的保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75520" y="37749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纪律也是安全的保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15400" y="1125360"/>
            <a:ext cx="456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要一提纪律就只想到罚站、停课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只想到对老师的愤恨，甚至认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纪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整人，纪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惩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71360" y="292428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严格的作息保证了你多少学习时间，科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生活方式使你的身体如何强健，全面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防范使你消除了多少安全隐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71360" y="4724280"/>
            <a:ext cx="5118480" cy="17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遵规守纪会给你带来很多的好处，你必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感激纪律，感激惩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668680" y="765000"/>
            <a:ext cx="42955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会背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进入初一，我班同学对“集体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一概念还理解得不够，很多同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道自己与集体的关系，常常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出一些损坏集体荣誉的事情。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此，新的生活，新的学习，我们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爱我们的集体开始。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79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16000" y="836640"/>
            <a:ext cx="770400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会目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教育学生热爱集体，明确个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集体的关系是息息相关的，明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人的成长、发展离不开集体；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的行为直接影响集体。为此，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班的一份子， 每个学生要为建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良好的班集体而承担一份责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55640" y="1557360"/>
            <a:ext cx="72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讨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个人与集体的关系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94836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156360" y="6206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286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195640" y="1125360"/>
            <a:ext cx="6804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讨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如果独自一人永远生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深山或孤岛上，能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生存或发展，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1692360" y="2205000"/>
            <a:ext cx="5759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能为集体做什么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300040" y="2565360"/>
            <a:ext cx="504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有国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有家规”，一个班也应该有一个班的规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规矩好了，风气正了，我们才会有一个良好的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习成长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结友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极向上”是我们努力的方向，有了一股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气之后，我们这个班级的凝聚力就形成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7480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ff"/>
              </a:solidFill>
              <a:latin typeface="Times New Roman"/>
              <a:ea typeface="华文彩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学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让我们轻松一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来玩一个名叫“两人三足”的游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规则如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两人一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共分两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组人把自己的腿与队友的绑在一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齐头并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哪组配合最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个到达终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900160" y="1341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7120" y="2565360"/>
            <a:ext cx="3287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怎样才能快速到达终点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你得到了什么启发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01:03:5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20:33Z</dcterms:modified>
  <cp:revision>54</cp:revision>
  <dc:subject>主题班会课件(分28大类): http://shop62905894.taobao.com</dc:subject>
  <dc:title>主题班会课件(分28大类): http://shop62905894.taobao.com</dc:title>
</cp:coreProperties>
</file>